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011-1DC5-4CCB-86C2-888DAC6B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8EC-F151-474C-85BC-271AE19B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981-6A43-4D28-9C5F-1E49B3E8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074-EFBA-49FD-95D8-6A19AFD3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A32-9700-4B83-A6B0-D3103150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EF6-C2EF-4649-BD4D-B1DE898C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9B6-33FB-4256-9C52-CE3E2771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D19-81B3-42E1-93D6-53E877F1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84C-1B95-45B8-B779-2B5AC487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7CE-7B79-412F-9D4D-B94A19AB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C6A-E59C-4FAB-89D7-7632B77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1D8-33C6-4C48-A58D-8F2E5053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9CCC-9297-46B0-A382-CC6C86E57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User</cp:lastModifiedBy>
  <dcterms:modified xsi:type="dcterms:W3CDTF">2017-01-23T10:59:23Z</dcterms:modified>
  <cp:revision>46</cp:revision>
  <dc:subject/>
  <dc:title>Слайд 1</dc:title>
</cp:coreProperties>
</file>