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4C6-DFD0-4AD4-B13B-71D378C4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026-9754-426D-A8E3-6D3856EF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68D-2606-4361-B3CA-3B4D7729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794-DBD1-47D2-9FB6-052A8D8D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93D-D262-496F-8019-8BEE79A7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075-0FFA-430A-B6CE-E95D0636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03A-7DD0-4D47-9400-1D9CA2E1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D6A-6E65-477E-8701-19C0AD44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CEB-0725-4454-AD30-8692A78E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93F-BAD2-47DE-9BF2-8CA704D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B71-C7A0-4044-95C9-F3F989A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B2E-9C4B-45A7-B332-22DC1591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DFFA-F7EA-4A6D-B930-7B471A2DA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User</cp:lastModifiedBy>
  <dcterms:modified xsi:type="dcterms:W3CDTF">2017-01-23T10:59:23Z</dcterms:modified>
  <cp:revision>46</cp:revision>
  <dc:subject/>
  <dc:title>Слайд 1</dc:title>
</cp:coreProperties>
</file>